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8665-B023-4ED3-B23A-2E9436F7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42A-4C55-4AB7-8985-6E83BE57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552C-341D-49CE-AB7C-31F257E4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39DD-FEC2-4394-B055-4534D741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7C98-5ADD-4D55-A0F4-5C7E5AF9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B291-B150-4F07-89EB-04ADB38D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5564-81CF-48E9-8E8F-5DDD083A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833-8CF9-464A-AEDC-D575088A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70E-E1B6-4B48-A9F0-80E5D842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5FD3-A79F-48C0-9129-7C4C0F7C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DFA-29EB-4B19-89ED-333D1FCB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B87-E1DA-472E-85B7-6708CD1D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A12E-651A-49ED-AC55-9CDA73F87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: Solve problems by looking for a pat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506960" y="1413000"/>
            <a:ext cx="370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506960" y="141300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  13 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      3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57150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506600" y="1413000"/>
            <a:ext cx="543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  13  18  24 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      3hr      4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57150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>
            <a:off x="66294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06600" y="1413000"/>
            <a:ext cx="543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  13  18  24 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      3hr      4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+ 4 + 6 + 9 + 13 + 18 + 24 + 31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7"/>
          <p:cNvSpPr/>
          <p:nvPr/>
        </p:nvSpPr>
        <p:spPr>
          <a:xfrm>
            <a:off x="57150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66294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506600" y="1413000"/>
            <a:ext cx="543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  13  18  24 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      3hr      4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+ 4 + 6 + 9 + 13 + 18 + 24 + 31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57150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66294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506600" y="1413000"/>
            <a:ext cx="543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  6  9  13  18  24 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  2hr      3hr      4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+ 4 + 6 + 9 + 13 + 18 + 24 + 31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48769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57150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66294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28600" y="4114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523880" y="411480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the number of problems worked each half hour follow the patte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821320" y="312408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, 48, 35, 24,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80880" y="1981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rule to find the successive terms in the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821320" y="312408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, 48, 35, 24,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80880" y="1981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rule to find the successive terms in the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66680" y="39625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he number decreased by 15, then 13, then 11, so the next number should decrease by 9 and then by 7. The number subtracted decreases by two each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80880" y="1981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ttern of numbers, 1, 1, 2, 3, 5, 8, . . . . ., is called the Fibonacci sequence. The terms of the sequence are called the Fibonacci numbers. List the first ten Fibonacci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80880" y="1981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ttern of numbers, 1, 1, 2, 3, 5, 8, . . . . ., is called the Fibonacci sequence. The terms of the sequence are called the Fibonacci numbers. List the first ten Fibonacci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058840" y="350532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1, 1, 2, 3, 5, 8, 13, 21, 34, 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228600" y="1371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80880" y="1981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pattern for the following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3, 5, 8, 11, 15, 19,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80880" y="1981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pattern for the following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3, 5, 8, 11, 15, 19, . . 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291680" y="373392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Pattern: +2, +2, +3, +3, +4, +4, +5, +5, . . 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80880" y="19810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number that should be in the blank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4, 2, 23, 3, 22, 4, . . . . . . 12, 13, 13, 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79548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0880" y="19810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number that should be in the blank s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, 4, 10, 20, 35, 56, __, __, 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80880" y="19810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number that should be in the blank s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, 4, 10, 20, 35, 56, __, __, 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043000" y="369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84,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29680" y="5791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432080" y="5832360"/>
            <a:ext cx="64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 patter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29680" y="5791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432080" y="5832360"/>
            <a:ext cx="64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 patter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29680" y="5791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432080" y="5832360"/>
            <a:ext cx="64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 patter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29680" y="5791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432080" y="5832360"/>
            <a:ext cx="64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 patter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1371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as trying to finish all her math homework on Friday. She did 3 problems the first 30 minutes, 4 problems the next 30 minutes, 6 problems the next 30 minutes, 9 problems the next 30 minutes, and so forth. If she continues to work at this rate, how many problems will she have done in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446480" y="3581280"/>
            <a:ext cx="547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 worked 30 min per proble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oblems wor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 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b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9680" y="57913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432080" y="5832360"/>
            <a:ext cx="64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 pattern. The difference between numbers increases by 1 each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-6 Problem-Solving Strategy: Look for a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22860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507320" y="1413000"/>
            <a:ext cx="314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worked: 3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 worked:          1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5:09:12Z</dcterms:created>
  <dc:creator>vern</dc:creator>
  <dc:description/>
  <dc:language>en-US</dc:language>
  <cp:lastModifiedBy>Piper Riddle</cp:lastModifiedBy>
  <dcterms:modified xsi:type="dcterms:W3CDTF">2012-01-23T03:01:33Z</dcterms:modified>
  <cp:revision>6</cp:revision>
  <dc:subject/>
  <dc:title>Problem-Solving Strategy: Look for a pattern</dc:title>
</cp:coreProperties>
</file>